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99B01-75B6-46C4-BBAB-6DABDB48B6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36800"/>
            <a:ext cx="8382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EF412-902B-478A-A040-19C91AE9C1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368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040" y="37368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36071-55BA-4A3D-B2BB-8EBEE87AF4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9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5160" y="990360"/>
            <a:ext cx="269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9440" y="990360"/>
            <a:ext cx="269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36800"/>
            <a:ext cx="269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5160" y="3736800"/>
            <a:ext cx="269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9440" y="3736800"/>
            <a:ext cx="269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F8B0F-B5EF-41C6-9DD5-D02956B3A4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820C1-D9E7-4E83-AA2C-15CAC8FDF8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0D85B-E6C8-4372-8D76-38F8D726EE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74CC1-D04F-4A41-8A07-DB7EAE61B2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DA1ED-30AD-4E03-BB6A-CC7F662442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83822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797DD-CE70-4E01-8D23-7FFF002230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368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22806-4AF5-4920-AD33-DB86668F93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040" y="373680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58DC5-044C-43F8-AF54-B4805C6B79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36800"/>
            <a:ext cx="8382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7F3DE-63FE-4E0F-B776-3061213963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80880" y="6400440"/>
            <a:ext cx="1981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Verdana"/>
              </a:rPr>
              <a:t>Sven O. Rimmelspach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86600" y="64004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4B2F8-5DA6-42B7-8C2A-23F35AE1DBE2}" type="slidenum">
              <a:rPr b="0" lang="de-DE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04920" y="838080"/>
            <a:ext cx="8534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124080" y="64008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Verdana"/>
              </a:rPr>
              <a:t>Gupta Entwicklerkonferenz München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00"/>
                </a:solidFill>
                <a:latin typeface="Verdana"/>
              </a:rPr>
              <a:t>CDK For Beginners</a:t>
            </a:r>
            <a:endParaRPr b="1" lang="en-US" sz="4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120" y="388584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Eine kurze Einführung mit Beispiel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Gupta Entwickler-Konferenz München 200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Sven O. Rimmelspach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21337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00"/>
                </a:solidFill>
                <a:latin typeface="Verdana"/>
              </a:rPr>
              <a:t>Component Developer</a:t>
            </a:r>
            <a:r>
              <a:rPr b="0" lang="en-US" sz="40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1" lang="de-DE" sz="4000" spc="-1" strike="noStrike">
                <a:solidFill>
                  <a:srgbClr val="ffff00"/>
                </a:solidFill>
                <a:latin typeface="Verdana"/>
              </a:rPr>
              <a:t>s K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801D5-12C6-4C1B-9871-4BA310ADF8C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Verdana"/>
              </a:rPr>
              <a:t>CDK-Struktur visuelle Klassen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3353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Verdana"/>
              </a:rPr>
              <a:t>Objekthierarchie der visuellen Klasse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Verdana"/>
              </a:rPr>
              <a:t>Bis auf die Statics sind alle von </a:t>
            </a:r>
            <a:r>
              <a:rPr b="1" lang="de-DE" sz="2400" spc="-1" strike="noStrike">
                <a:solidFill>
                  <a:srgbClr val="ffff00"/>
                </a:solidFill>
                <a:latin typeface="Courier New"/>
              </a:rPr>
              <a:t>cdkWindow</a:t>
            </a:r>
            <a:r>
              <a:rPr b="0" lang="de-DE" sz="2200" spc="-1" strike="noStrike">
                <a:solidFill>
                  <a:srgbClr val="ffffff"/>
                </a:solidFill>
                <a:latin typeface="Verdana"/>
              </a:rPr>
              <a:t> abgeleite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Verdana"/>
              </a:rPr>
              <a:t>Fenster und Tabellen sind alle Container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Verdana"/>
              </a:rPr>
              <a:t>Es ist natürlich kein Problem eigene Klassen abzuleiten und mit eigenen Funktionen zu erweiter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429000" y="892080"/>
          <a:ext cx="5638680" cy="545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892080"/>
                    <a:ext cx="5638680" cy="54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80499-CCFC-4764-8857-8432B3F5869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Verdana"/>
              </a:rPr>
              <a:t>Aufbau SAL-CDK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Mit den Konstanten werden die einzelnen Typen der Outline-Items (Code-Zeilen) identifiziert (es gibt Lücken, manche muss man selbst definieren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35268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Für jedes Objekt gibt es eine Funktionskla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Die Funktionsklassen sind Wrapper um die Funktionen in den jeweiligen CDK-D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2262240"/>
            <a:ext cx="708660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Courier New"/>
              </a:rPr>
              <a:t>Number: CDK_IT_AbsScreenLocation = 0x001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Courier New"/>
              </a:rPr>
              <a:t>Number: CDK_IT_AccesoriesEnabled = 0x019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Courier New"/>
              </a:rPr>
              <a:t>Number: CDK_IT_ActionsBlock = 0x00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4724280"/>
            <a:ext cx="7315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Courier New"/>
              </a:rPr>
              <a:t>Functional Class: cdkActionB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Courier New"/>
              </a:rPr>
              <a:t>Functional Class: cdkActiv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Courier New"/>
              </a:rPr>
              <a:t>Functional Class: cdk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Courier New"/>
              </a:rPr>
              <a:t>Functional Class: cdkVar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Courier New"/>
              </a:rPr>
              <a:t>Functional Class: cdkWind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ADF86-EAA6-4208-8755-022B4144127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Verdana"/>
              </a:rPr>
              <a:t>Aufbau C++-CDK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610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Das C++-CDK ist (zumindest teilweise) sehr ästhetisch nach objektorientierten und standardisierten Design Patterns aufgebaut, die man z. B. bei Erich Gamma in seinem Buch </a:t>
            </a:r>
            <a:r>
              <a:rPr b="0" i="1" lang="de-DE" sz="2400" spc="-1" strike="noStrike">
                <a:solidFill>
                  <a:srgbClr val="ffffff"/>
                </a:solidFill>
                <a:latin typeface="Verdana"/>
              </a:rPr>
              <a:t>Design Patterns</a:t>
            </a: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 nachlesen kan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Diese Patterns sind u. 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Iterato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Visito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Teilweise veraltet im Vergleich zum SAL-CD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Der Sourcecode wird nicht mehr ausgeliefert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Später sehen wir ein konkretes Beispi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63EE0-EE68-4FB5-A975-E6BCDCA7C7C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Verdana"/>
              </a:rPr>
              <a:t>Beispiele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Mit der Installation von CTD können einige CDK-Beispiele mit installiert werden, mit denen man das CDK sehr gut verstehen und lernen kan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Beispiel-Anwendungen sind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Erzeugen und Manipulation von Control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Entfernen von Debug Cod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Runtime Inspecto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Klassendokument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Notify-Beispiel für Benutzereingabe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Quick Object-Beispie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Und noch einige meh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3A888-DB4A-4CFC-B390-EB129D7DDC1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Verdana"/>
              </a:rPr>
              <a:t>Beispiel 1: Properties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Mit diesem Beispiel-Programm werden die Properties </a:t>
            </a:r>
            <a:r>
              <a:rPr b="1" lang="de-DE" sz="2800" spc="-1" strike="noStrike">
                <a:solidFill>
                  <a:srgbClr val="ffff00"/>
                </a:solidFill>
                <a:latin typeface="Courier New"/>
              </a:rPr>
              <a:t>TooltipText</a:t>
            </a:r>
            <a:r>
              <a:rPr b="0" lang="de-DE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und </a:t>
            </a:r>
            <a:r>
              <a:rPr b="1" lang="de-DE" sz="2800" spc="-1" strike="noStrike">
                <a:solidFill>
                  <a:srgbClr val="ffff00"/>
                </a:solidFill>
                <a:latin typeface="Courier New"/>
              </a:rPr>
              <a:t>StatusText</a:t>
            </a: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 für ein Control über einen Dialog eingestell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Wird ein Control erstellt (z. B. ein Datenfeld) wird der Property-Dialog aufgerufen, man gibt die Daten ein und die Properties werden erzeug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Zur Laufzeit wird auf die Properties zugegriffen und die Inhalte werden angezeig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Vortei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Immer gleicher Ablauf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Properties werden nicht vergesse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Vereinfachung des Cod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7E0A3-6494-452C-B0EC-693AF2587D3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Verdana"/>
              </a:rPr>
              <a:t>Beispiel 1: Property-Anwendung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990720"/>
            <a:ext cx="838224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00"/>
                </a:solidFill>
                <a:latin typeface="Courier New"/>
              </a:rPr>
              <a:t>Application A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ffff00"/>
                </a:solidFill>
                <a:latin typeface="Courier New"/>
              </a:rPr>
              <a:t>On SAM_AppStart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b2b2b2"/>
                </a:solidFill>
                <a:latin typeface="Courier New"/>
              </a:rPr>
              <a:t>! in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ffff00"/>
                </a:solidFill>
                <a:latin typeface="Courier New"/>
              </a:rPr>
              <a:t>Call CDK_App.InitializeFramework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ffff00"/>
                </a:solidFill>
                <a:latin typeface="Courier New"/>
              </a:rPr>
              <a:t>Call CDK_App.DisplayModalWindow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ffff00"/>
                </a:solidFill>
                <a:latin typeface="Courier New"/>
              </a:rPr>
              <a:t>On SAM_AppEx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ffff00"/>
                </a:solidFill>
                <a:latin typeface="Courier New"/>
              </a:rPr>
              <a:t>Call CDK_App.CloseApp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ffff00"/>
                </a:solidFill>
                <a:latin typeface="Courier New"/>
              </a:rPr>
              <a:t>Call CDK_App.CloseFrameWork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Und weiter un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00"/>
                </a:solidFill>
                <a:latin typeface="Courier New"/>
              </a:rPr>
              <a:t>Data Field: dfTooltip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00"/>
                </a:solidFill>
                <a:latin typeface="Courier New"/>
              </a:rPr>
              <a:t>Data Field: dfStatus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00"/>
                </a:solidFill>
                <a:latin typeface="Courier New"/>
              </a:rPr>
              <a:t>Pushbutton: pb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ffff00"/>
                </a:solidFill>
                <a:latin typeface="Courier New"/>
              </a:rPr>
              <a:t>On SAM_Cli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b2b2b2"/>
                </a:solidFill>
                <a:latin typeface="Courier New"/>
              </a:rPr>
              <a:t>! init object ins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ffff00"/>
                </a:solidFill>
                <a:latin typeface="Courier New"/>
              </a:rPr>
              <a:t>Call aWindow.InitializeFromObject( CDK_Window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b2b2b2"/>
                </a:solidFill>
                <a:latin typeface="Courier New"/>
              </a:rPr>
              <a:t>! set the properties, just </a:t>
            </a:r>
            <a:r>
              <a:rPr b="1" i="1" lang="de-DE" sz="1600" spc="-1" strike="noStrike">
                <a:solidFill>
                  <a:srgbClr val="b2b2b2"/>
                </a:solidFill>
                <a:latin typeface="Courier New"/>
              </a:rPr>
              <a:t>invent</a:t>
            </a:r>
            <a:r>
              <a:rPr b="1" lang="de-DE" sz="1600" spc="-1" strike="noStrike">
                <a:solidFill>
                  <a:srgbClr val="b2b2b2"/>
                </a:solidFill>
                <a:latin typeface="Courier New"/>
              </a:rPr>
              <a:t> the name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ffff00"/>
                </a:solidFill>
                <a:latin typeface="Courier New"/>
              </a:rPr>
              <a:t>Call aWindow.SetStrProperty( „TooltipText", dfTooltipText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ffff00"/>
                </a:solidFill>
                <a:latin typeface="Courier New"/>
              </a:rPr>
              <a:t>Call aWindow.SetStrProperty( "StatusText", dfStatusText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3124080" cy="234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97E9C-1AB6-4EFB-9122-891967157B5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Verdana"/>
              </a:rPr>
              <a:t>Beispiel 1: Host-Anwendung I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In der Host Anwendung definieren wir eine Klasse ..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Data Field Class: cDf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On SAM_Creat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b2b2b2"/>
                </a:solidFill>
                <a:latin typeface="Courier New"/>
              </a:rPr>
              <a:t>! retrieve and init the propertie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Call SalWindowGetProperty( hWndItem, "TooltipText", m_sTooltip 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Call SalWindowGetProperty( hWndItem, "StatusText", m_sStatus 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Call TTAddTool( hWndItem, m_sTooltip, </a:t>
            </a:r>
            <a:br>
              <a:rPr sz="1600"/>
            </a:b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 m_sStatus 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... und rufen den QuickObject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Editor zum Einstellen der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Property-Anwendung auf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(Menü Component|QuickObject Editor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38680" y="3121200"/>
            <a:ext cx="3343320" cy="32097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76800" y="6019920"/>
            <a:ext cx="492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00"/>
                </a:solidFill>
                <a:latin typeface="Courier New"/>
              </a:rPr>
              <a:t>CDK_App.DisplayModalWindow()</a:t>
            </a:r>
            <a:r>
              <a:rPr b="1" lang="de-DE" sz="1200" spc="-1" strike="noStrike">
                <a:solidFill>
                  <a:srgbClr val="ffffff"/>
                </a:solidFill>
                <a:latin typeface="Verdana"/>
              </a:rPr>
              <a:t> ruft dieses Fenster au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343400" y="4114440"/>
            <a:ext cx="2514600" cy="19810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19253-B9B8-4115-9455-7EAD345B36C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Verdana"/>
              </a:rPr>
              <a:t>Beispiel 1: Host-Anwendung II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353200" y="3352680"/>
            <a:ext cx="2495520" cy="20196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647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Beim Erzeugen einer Instanz der Klas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wird der der Klasse zugeordnet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Property-Dialog automatisch aufgerufe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und über die Funktionen das Proper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des aufrufenden Controls erzeug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705720" y="1219320"/>
            <a:ext cx="2224080" cy="19904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 rot="1440000">
            <a:off x="7314840" y="2819160"/>
            <a:ext cx="228600" cy="1752480"/>
          </a:xfrm>
          <a:custGeom>
            <a:avLst/>
            <a:gdLst>
              <a:gd name="textAreaLeft" fmla="*/ 30600 w 228600"/>
              <a:gd name="textAreaRight" fmla="*/ 198000 w 228600"/>
              <a:gd name="textAreaTop" fmla="*/ 344880 h 1752480"/>
              <a:gd name="textAreaBottom" fmla="*/ 125244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500" stAng="-5400000" swAng="5400000"/>
                <a:lnTo>
                  <a:pt x="21600" y="11186"/>
                </a:lnTo>
                <a:arcTo wR="21600" hR="8500" stAng="0" swAng="2883730"/>
                <a:lnTo>
                  <a:pt x="7200" y="21114"/>
                </a:lnTo>
                <a:lnTo>
                  <a:pt x="0" y="18343"/>
                </a:lnTo>
                <a:lnTo>
                  <a:pt x="7200" y="14600"/>
                </a:lnTo>
                <a:lnTo>
                  <a:pt x="7200" y="16514"/>
                </a:lnTo>
                <a:arcTo wR="21600" hR="8500" stAng="2883730" swAng="-2667551"/>
                <a:lnTo>
                  <a:pt x="21329" y="9843"/>
                </a:lnTo>
                <a:arcTo wR="21600" hR="8500" stAng="-216179" swAng="-5183821"/>
                <a:close/>
              </a:path>
              <a:path fill="darkenLess" w="21600" h="21600">
                <a:moveTo>
                  <a:pt x="0" y="0"/>
                </a:moveTo>
                <a:arcTo wR="21600" hR="8500" stAng="-5400000" swAng="5400000"/>
                <a:lnTo>
                  <a:pt x="21600" y="11186"/>
                </a:lnTo>
                <a:arcTo wR="21600" hR="8500" stAng="0" swAng="-216179"/>
                <a:lnTo>
                  <a:pt x="21329" y="9843"/>
                </a:lnTo>
                <a:arcTo wR="21600" hR="8500" stAng="-216179" swAng="-5183821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3886200"/>
            <a:ext cx="32767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Alternativ kann 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Property-Dialog au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über das Kontextmen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aufgerufen werde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das einen neu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Eintrag enthä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603600" y="3657600"/>
            <a:ext cx="1501920" cy="2565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6486480" y="4495680"/>
            <a:ext cx="2124000" cy="1590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8D6E5-685D-4979-A587-D7CA4134016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Verdana"/>
              </a:rPr>
              <a:t>Beispiel 1: Host-Anwendung III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Beim Ausführen der Host-Anwendung kann das Programm auf die so erzeugten Properties zugreifen und damit arbeite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2362320"/>
            <a:ext cx="4953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An diesem einfachen Beispiel kann man zeigen, wie schnell und effektiv man solche Properties erzeugen k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Dieses Prinzip ist natürlich auf beliebige andere Möglichkeiten portier- und erweiter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486400" y="2532240"/>
            <a:ext cx="3375000" cy="272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C8152-5753-4567-B94E-6237BFE5704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Verdana"/>
              </a:rPr>
              <a:t>Beispiel 1: Host-Anwendung IV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Die Properties werden dauerhaft im Code gespeicher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Man kann die Einträge im Text-Modus einer SQLWindows-Datei finde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3457440"/>
            <a:ext cx="792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00"/>
                </a:solidFill>
                <a:latin typeface="Courier New"/>
              </a:rPr>
              <a:t>.head 4 -  Property Template: Example1Prop.exe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00"/>
                </a:solidFill>
                <a:latin typeface="Courier New"/>
              </a:rPr>
              <a:t>           </a:t>
            </a:r>
            <a:r>
              <a:rPr b="1" lang="de-DE" sz="1600" spc="-1" strike="noStrike">
                <a:solidFill>
                  <a:srgbClr val="ffff00"/>
                </a:solidFill>
                <a:latin typeface="Courier New"/>
              </a:rPr>
              <a:t>dlgTooltipStatusProps,Tooltip and Status Text,,Y,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5029200"/>
            <a:ext cx="807696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00"/>
                </a:solidFill>
                <a:latin typeface="Courier New"/>
              </a:rPr>
              <a:t>.data CLASSPRO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00"/>
                </a:solidFill>
                <a:latin typeface="Courier New"/>
              </a:rPr>
              <a:t>0000: 5374617475735465 7874001300536563 6F6E642053746174 75732054657874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00"/>
                </a:solidFill>
                <a:latin typeface="Courier New"/>
              </a:rPr>
              <a:t>0020: 00546F6F6C746970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54657874000F0053 65636F6E6420546F 6F6C746970</a:t>
            </a:r>
            <a:r>
              <a:rPr b="1" lang="de-DE" sz="1400" spc="-1" strike="noStrike">
                <a:solidFill>
                  <a:srgbClr val="ffff00"/>
                </a:solidFill>
                <a:latin typeface="Courier New"/>
              </a:rPr>
              <a:t>000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00"/>
                </a:solidFill>
                <a:latin typeface="Courier New"/>
              </a:rPr>
              <a:t>0040: 000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00"/>
                </a:solidFill>
                <a:latin typeface="Courier New"/>
              </a:rPr>
              <a:t>.enddata</a:t>
            </a:r>
            <a:r>
              <a:rPr b="1" lang="de-DE" sz="1400" spc="-1" strike="noStrike">
                <a:solidFill>
                  <a:srgbClr val="ffff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4208400"/>
            <a:ext cx="838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2. Infos in der Instanz im Hex-Format, hervorgehobener Text ist z. B. unser Tooltip-Text </a:t>
            </a:r>
            <a:r>
              <a:rPr b="0" i="1" lang="de-DE" sz="2000" spc="-1" strike="noStrike">
                <a:solidFill>
                  <a:srgbClr val="ff3300"/>
                </a:solidFill>
                <a:latin typeface="Verdana"/>
              </a:rPr>
              <a:t>Second Toolt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2971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1. Infos in der Klasse (Verweis auf Editor, Menütext, usw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E7455-E20D-457A-A73A-D578B880B5D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Verdana"/>
              </a:rPr>
              <a:t>Übersicht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Was ist das CDK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Interfac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Outline Interfac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Runtime Inspector Interfac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Notification Interfac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SAL-CDK vs. C++-CD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Aufbau SAL-CD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Aufbau C++-CD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Beispie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1B9C6-1C0E-4467-9CE1-3FBAFA113D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600" spc="-1" strike="noStrike">
                <a:solidFill>
                  <a:srgbClr val="ffff00"/>
                </a:solidFill>
                <a:latin typeface="Verdana"/>
              </a:rPr>
              <a:t>DEMO</a:t>
            </a:r>
            <a:endParaRPr b="1" lang="en-US" sz="66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105" name="beavis16" descr=""/>
          <p:cNvPicPr/>
          <p:nvPr/>
        </p:nvPicPr>
        <p:blipFill>
          <a:blip r:embed="rId1"/>
          <a:stretch/>
        </p:blipFill>
        <p:spPr>
          <a:xfrm>
            <a:off x="3562200" y="2895480"/>
            <a:ext cx="2000520" cy="272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EC4B5-1786-4083-85C7-7B91863F6FA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Verdana"/>
              </a:rPr>
              <a:t>Beispiel 2: Notify I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Dieses Beispiel wird mit den CDK-Samples mitgeliefert und zeigt auf einfache Art und Weise, wie das Notify-Interface genutzt werden kan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Zuerst installieren wir ein neues User-Too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029200" y="2819520"/>
            <a:ext cx="3543480" cy="3809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80880" y="2819520"/>
            <a:ext cx="48006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Das Programm heißt </a:t>
            </a:r>
            <a:r>
              <a:rPr b="1" lang="de-DE" sz="2400" spc="-1" strike="noStrike">
                <a:solidFill>
                  <a:srgbClr val="ffff00"/>
                </a:solidFill>
                <a:latin typeface="Courier New"/>
              </a:rPr>
              <a:t>Notify.exe</a:t>
            </a: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 und wird mit dem Parameter </a:t>
            </a:r>
            <a:r>
              <a:rPr b="1" lang="de-DE" sz="2400" spc="-1" strike="noStrike">
                <a:solidFill>
                  <a:srgbClr val="ffff00"/>
                </a:solidFill>
                <a:latin typeface="Courier New"/>
              </a:rPr>
              <a:t>$Outline</a:t>
            </a: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 aufgerufen, der an das Programm einen Handle auf den Outline übergibt (weitere Parameter siehe Dokument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0B1C8-B83F-409C-AE3B-5544B3A0EE8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Verdana"/>
              </a:rPr>
              <a:t>Beispiel 2: Notify II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381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Beim Aufruf des Programms werden zwei Fenster angezeigt, die jede Aktion innerhalb des Outlines protokolliere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951280" y="2006640"/>
            <a:ext cx="6040440" cy="43578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04920" y="2682720"/>
            <a:ext cx="4019400" cy="2117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457200" y="3505320"/>
            <a:ext cx="3774960" cy="2381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64270-F268-4FAD-9678-A15C3909A75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Verdana"/>
              </a:rPr>
              <a:t>Beispiel 2: Notify III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Die Fenster sind vom Typ </a:t>
            </a:r>
            <a:r>
              <a:rPr b="1" lang="de-DE" sz="2400" spc="-1" strike="noStrike">
                <a:solidFill>
                  <a:srgbClr val="ffff00"/>
                </a:solidFill>
                <a:latin typeface="Courier New"/>
              </a:rPr>
              <a:t>cdkNotifyForm</a:t>
            </a: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, eine Fensterklasse, die in </a:t>
            </a:r>
            <a:r>
              <a:rPr b="1" lang="de-DE" sz="2400" spc="-1" strike="noStrike">
                <a:solidFill>
                  <a:srgbClr val="ffff00"/>
                </a:solidFill>
                <a:latin typeface="Courier New"/>
              </a:rPr>
              <a:t>tlnotify.apl</a:t>
            </a: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 definiert is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Mit der Funktion </a:t>
            </a:r>
            <a:r>
              <a:rPr b="1" lang="de-DE" sz="2400" spc="-1" strike="noStrike">
                <a:solidFill>
                  <a:srgbClr val="ffff00"/>
                </a:solidFill>
                <a:latin typeface="Courier New"/>
              </a:rPr>
              <a:t>SalOutlineAddNotifyWindow()</a:t>
            </a: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 wird ein Fenster </a:t>
            </a:r>
            <a:r>
              <a:rPr b="0" i="1" lang="de-DE" sz="2400" spc="-1" strike="noStrike">
                <a:solidFill>
                  <a:srgbClr val="ffffff"/>
                </a:solidFill>
                <a:latin typeface="Verdana"/>
              </a:rPr>
              <a:t>registriert</a:t>
            </a: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, das über die Events informiert wir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Diesem Fenster wird die Message </a:t>
            </a:r>
            <a:r>
              <a:rPr b="1" lang="de-DE" sz="2400" spc="-1" strike="noStrike">
                <a:solidFill>
                  <a:srgbClr val="ffff00"/>
                </a:solidFill>
                <a:latin typeface="Courier New"/>
              </a:rPr>
              <a:t>SAM_ToolNotify</a:t>
            </a: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 bei jedem Event geschick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Courier New"/>
              </a:rPr>
              <a:t>wParam</a:t>
            </a: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 enthält Informationen über die Ereignisgruppe (</a:t>
            </a:r>
            <a:r>
              <a:rPr b="1" lang="de-DE" sz="2400" spc="-1" strike="noStrike">
                <a:solidFill>
                  <a:srgbClr val="ffff00"/>
                </a:solidFill>
                <a:latin typeface="Courier New"/>
              </a:rPr>
              <a:t>TNG_*</a:t>
            </a: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-Konstanten) sowie über das Ereignis selbst (</a:t>
            </a:r>
            <a:r>
              <a:rPr b="1" lang="de-DE" sz="2400" spc="-1" strike="noStrike">
                <a:solidFill>
                  <a:srgbClr val="ffff00"/>
                </a:solidFill>
                <a:latin typeface="Courier New"/>
              </a:rPr>
              <a:t>TNE_*</a:t>
            </a: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-Konstanten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Im Falle eines Edit-Ereignisses, kann mit mit </a:t>
            </a:r>
            <a:r>
              <a:rPr b="1" lang="de-DE" sz="2400" spc="-1" strike="noStrike">
                <a:solidFill>
                  <a:srgbClr val="ffff00"/>
                </a:solidFill>
                <a:latin typeface="Courier New"/>
              </a:rPr>
              <a:t>lParam</a:t>
            </a: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 und </a:t>
            </a:r>
            <a:r>
              <a:rPr b="1" lang="de-DE" sz="2400" spc="-1" strike="noStrike">
                <a:solidFill>
                  <a:srgbClr val="ffff00"/>
                </a:solidFill>
                <a:latin typeface="Courier New"/>
              </a:rPr>
              <a:t>SalOutlineGetNotifyItem()</a:t>
            </a: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das Item ermitteln und über die abstrakten </a:t>
            </a:r>
            <a:r>
              <a:rPr b="1" lang="de-DE" sz="2400" spc="-1" strike="noStrike">
                <a:solidFill>
                  <a:srgbClr val="ffff00"/>
                </a:solidFill>
                <a:latin typeface="Courier New"/>
              </a:rPr>
              <a:t>Notify*()</a:t>
            </a: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-Funktionen darauf reagiere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290A4-9337-42B9-993B-BBB3D770122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600" spc="-1" strike="noStrike">
                <a:solidFill>
                  <a:srgbClr val="ffff00"/>
                </a:solidFill>
                <a:latin typeface="Verdana"/>
              </a:rPr>
              <a:t>DEMO</a:t>
            </a:r>
            <a:endParaRPr b="1" lang="en-US" sz="66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118" name="beavis16" descr=""/>
          <p:cNvPicPr/>
          <p:nvPr/>
        </p:nvPicPr>
        <p:blipFill>
          <a:blip r:embed="rId1"/>
          <a:stretch/>
        </p:blipFill>
        <p:spPr>
          <a:xfrm>
            <a:off x="3562200" y="2895480"/>
            <a:ext cx="2000520" cy="272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1B1A5-3011-4329-943E-B6356189CA2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Verdana"/>
              </a:rPr>
              <a:t>Beispiel 3: Modifizieren von Code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SAL-Code kann direkt über ein Programm modifiziert werden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Dies kann einerseits </a:t>
            </a:r>
            <a:r>
              <a:rPr b="0" i="1" lang="de-DE" sz="2400" spc="-1" strike="noStrike">
                <a:solidFill>
                  <a:srgbClr val="ffffff"/>
                </a:solidFill>
                <a:latin typeface="Verdana"/>
              </a:rPr>
              <a:t>online</a:t>
            </a: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, also aus dem zu ändernden Programm passieren, d. h. während des Editierens wird über eine andere Anwendung Code hinzugefügt (z. B. IntelliSal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Alternativ kann man mit einem Programm eine SAL-Datei öffnen, Code-Elemente lokalisieren, lesen, schreiben, ändern, hinzufügen, löschen usw. und die geänderte Datei wieder speicher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43DD8-58AE-4024-991F-4C41C884AAC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31240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600" spc="-1" strike="noStrike">
                <a:solidFill>
                  <a:srgbClr val="ffff00"/>
                </a:solidFill>
                <a:latin typeface="Verdana"/>
              </a:rPr>
              <a:t>WERBUNG</a:t>
            </a:r>
            <a:endParaRPr b="1" lang="en-US" sz="9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87B3C-ED02-45E9-9337-17232942943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Verdana"/>
              </a:rPr>
              <a:t>Beispiel 3: Kommentare I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Mit </a:t>
            </a:r>
            <a:r>
              <a:rPr b="0" lang="de-DE" sz="2400" spc="-1" strike="noStrike">
                <a:solidFill>
                  <a:srgbClr val="ffff00"/>
                </a:solidFill>
                <a:latin typeface="Verdana"/>
              </a:rPr>
              <a:t>IntelliDoc</a:t>
            </a: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 ist es möglich, Kommentare aus einer SAL-Datei zu extrahieren und im HTML-Format strukturiert abzulegen. Diese Kommentare werden natürlich mit dem CDK gelese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Die Kommentare können zusätzlich in </a:t>
            </a:r>
            <a:r>
              <a:rPr b="0" lang="de-DE" sz="2400" spc="-1" strike="noStrike">
                <a:solidFill>
                  <a:srgbClr val="ffff00"/>
                </a:solidFill>
                <a:latin typeface="Verdana"/>
              </a:rPr>
              <a:t>IntelliDoc</a:t>
            </a: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 bearbeitet oder auch neue hinzugefügt werde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Im  Beispiel (eine vereinfachte Version einer Funktion von </a:t>
            </a:r>
            <a:r>
              <a:rPr b="0" lang="de-DE" sz="2400" spc="-1" strike="noStrike">
                <a:solidFill>
                  <a:srgbClr val="ffff00"/>
                </a:solidFill>
                <a:latin typeface="Verdana"/>
              </a:rPr>
              <a:t>IntelliDoc</a:t>
            </a: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) wird ein Kommentar zu einem Parameter einer Funktion hinzugefügt und der Kommentar des zweiten Parameters der Funktion geänder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Übrigens: </a:t>
            </a:r>
            <a:r>
              <a:rPr b="0" lang="de-DE" sz="2400" spc="-1" strike="noStrike">
                <a:solidFill>
                  <a:srgbClr val="ffff00"/>
                </a:solidFill>
                <a:latin typeface="Verdana"/>
              </a:rPr>
              <a:t>IntelliDoc</a:t>
            </a: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 finden Sie bei der Ice Tea Group unter </a:t>
            </a:r>
            <a:r>
              <a:rPr b="1" lang="de-DE" sz="2400" spc="-1" strike="noStrike">
                <a:solidFill>
                  <a:srgbClr val="3333cc"/>
                </a:solidFill>
                <a:latin typeface="Courier New"/>
              </a:rPr>
              <a:t>www.iceteagroup.co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654D1-8937-4C68-BCA7-4EB073E8E55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31240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ffff00"/>
                </a:solidFill>
                <a:latin typeface="Verdana"/>
              </a:rPr>
              <a:t>Jetzt geht's weiter</a:t>
            </a:r>
            <a:endParaRPr b="1" lang="en-US" sz="6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000D5-0382-4F41-8A13-69CAF9BE8E3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Verdana"/>
              </a:rPr>
              <a:t>Beispiel 3: Kommentare II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Function: Foo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Description: This function is modfied using the CD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*Returns: TRUE if successful, FALSE if an error occur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Return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Boolean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Parameter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String: sParameter1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String: sParameter2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b2b2b2"/>
                </a:solidFill>
                <a:latin typeface="Courier New"/>
              </a:rPr>
              <a:t>! original comment of parameter 2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Static Variable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Local variable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Action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581280" y="2971800"/>
            <a:ext cx="60984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15040" y="2757600"/>
            <a:ext cx="42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Verdana"/>
              </a:rPr>
              <a:t>Hier wird ein Kommentar eingefüg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3352320" y="3809520"/>
            <a:ext cx="546120" cy="44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14080" y="4038480"/>
            <a:ext cx="40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Verdana"/>
              </a:rPr>
              <a:t>Dieser Kommentar wird geänd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A1B37-AA70-4FBB-BBB2-9615E4B13C6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Verdana"/>
              </a:rPr>
              <a:t>Was ist das CDK?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Das CDK ist eine objektorientierte Bibliothek, mit der man das gesamte Environment und den Code von SQLWindows ansprechen und manipulieren kan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Das CDK muss zusätzlich über die Enterprise Options installiert werde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Es gibt eine SAL- und eine C++-Version, die zwar grundsätzlich die gleiche Funktionalität bieten, sich jedoch technisch unterscheiden (wie wir noch sehen werden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Achtung! Von der C++-Version wird seit CTD2000 der Sourcecode nicht mehr mit ausgeliefert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59DE7-3452-42C4-863C-D78FCDC7B23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Verdana"/>
              </a:rPr>
              <a:t>Beispiel 3: Kommentare III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Local variables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cdkItem: aDescriptio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cdkFunction: aFunctio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Actions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b2b2b2"/>
                </a:solidFill>
                <a:latin typeface="Courier New"/>
              </a:rPr>
              <a:t>! open the fil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If CDK_App.InitFromFile( "Example3Client.app" 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b2b2b2"/>
                </a:solidFill>
                <a:latin typeface="Courier New"/>
              </a:rPr>
              <a:t>! get function object, we know the name in this exampl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If CDK_App.GetFunction( "Foo", aFunction 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Set sName = aFunction.GetText(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Call aFunction.GetReturnType( sRet 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b2b2b2"/>
                </a:solidFill>
                <a:latin typeface="Courier New"/>
              </a:rPr>
              <a:t>! get description of functio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If aFunction.GetFirstChild( aDescription 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Set sDesc = aDescription.GetText(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b2b2b2"/>
                </a:solidFill>
                <a:latin typeface="Courier New"/>
              </a:rPr>
              <a:t>! read parameter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Set nParameters = aFunction.EnumParametersAndComments(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                        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saParams, saTypes, saParamComments 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1143000"/>
            <a:ext cx="8382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Lesen der Funktion und Parameter, Funktion etwas vereinfac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E8A3C-AA4F-41E8-B82F-76FC93CD161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Verdana"/>
              </a:rPr>
              <a:t>Beispiel 3: Kommentare IV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110200" y="2162160"/>
            <a:ext cx="3805200" cy="385776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Die gelesenen Daten können in einfachen Dialogen nachbearbeitet werde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981080"/>
            <a:ext cx="47246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Hat man die Bearbeitung beendet, schreibt man die Änderungen zurück in die Quelldat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320" y="4751280"/>
            <a:ext cx="5029200" cy="12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String: sParameter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b2b2b2"/>
                </a:solidFill>
                <a:latin typeface="Courier New"/>
              </a:rPr>
              <a:t>! new parameter com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String: sParameter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b2b2b2"/>
                </a:solidFill>
                <a:latin typeface="Courier New"/>
              </a:rPr>
              <a:t>! Modified comment of parameter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3771360" y="2704680"/>
            <a:ext cx="914400" cy="2667240"/>
          </a:xfrm>
          <a:custGeom>
            <a:avLst/>
            <a:gdLst>
              <a:gd name="textAreaLeft" fmla="*/ 122400 w 914400"/>
              <a:gd name="textAreaRight" fmla="*/ 792000 w 914400"/>
              <a:gd name="textAreaTop" fmla="*/ 466560 h 2667240"/>
              <a:gd name="textAreaBottom" fmla="*/ 1933920 h 266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0D1E3-6F45-43D7-9B64-6996EE61B41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Verdana"/>
              </a:rPr>
              <a:t>Beispiel 3: Kommentare V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Courier New"/>
              </a:rPr>
              <a:t>! search for item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If CDK_App.GetFunction( "Foo", aFunction 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b2b2b2"/>
                </a:solidFill>
                <a:latin typeface="Courier New"/>
              </a:rPr>
              <a:t>! Enumerate parameters (workaround, no such function exists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Call CDKEnumObjectHandles( aFunction.m_hOutline , aFunction.m_hItem ,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                              </a:t>
            </a: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CDK_IT_Parameters , oParams 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b2b2b2"/>
                </a:solidFill>
                <a:latin typeface="Courier New"/>
              </a:rPr>
              <a:t>! now loop thru all the parameter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Set nI = 0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While nI &lt; nParameter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If oParams[nI].GetFirstChild( aComment 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b2b2b2"/>
                </a:solidFill>
                <a:latin typeface="Courier New"/>
              </a:rPr>
              <a:t>! yes, just change the tex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Call aComment.SetText( saParamCom[nI] 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Els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b2b2b2"/>
                </a:solidFill>
                <a:latin typeface="Courier New"/>
              </a:rPr>
              <a:t>! no, append new comment item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If oParams[nI].AppendItem( oParams[nI], CDK_IT_Comment, aComment 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b2b2b2"/>
                </a:solidFill>
                <a:latin typeface="Courier New"/>
              </a:rPr>
              <a:t>! set text for commen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Call aComment.SetText( saParamCom[nI] 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Set nI = nI + 1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Courier New"/>
              </a:rPr>
              <a:t>! Save changes and release fil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Call CDK_App.SaveOutline( "Example3Client.app" 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Call CDK_App.CloseApp(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1066680"/>
            <a:ext cx="8382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Achtung! Aus Gründen der Lesbarkeit vereinfac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C5576-1120-4241-970B-EAD69132325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600" spc="-1" strike="noStrike">
                <a:solidFill>
                  <a:srgbClr val="ffff00"/>
                </a:solidFill>
                <a:latin typeface="Verdana"/>
              </a:rPr>
              <a:t>DEMO</a:t>
            </a:r>
            <a:endParaRPr b="1" lang="en-US" sz="66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144" name="beavis16" descr=""/>
          <p:cNvPicPr/>
          <p:nvPr/>
        </p:nvPicPr>
        <p:blipFill>
          <a:blip r:embed="rId1"/>
          <a:stretch/>
        </p:blipFill>
        <p:spPr>
          <a:xfrm>
            <a:off x="3562200" y="2895480"/>
            <a:ext cx="2000520" cy="272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22864-F9DD-4857-81F1-D6415AE85D0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Verdana"/>
              </a:rPr>
              <a:t>Beispiel 4: Alle Zeilen lesen I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6108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Eine oft benötigte Funk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Kann z. B. für das Extrahieren von Texten, von bestimmten Code-Zeilen (Debug-Code) oder Controls usw. verwendet werde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Diese Funktion ist überraschender Weise wesentlich einfacher als man denkt und dabei noch recht performant (keine Rekursion notwendig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8A051-1B41-4B2F-9265-85E72BA9C2C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Verdana"/>
              </a:rPr>
              <a:t>Beispiel 4: Alle Zeilen lesen II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1143000"/>
            <a:ext cx="861084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If CDK_App.InitFromFile( p_sFile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b2b2b2"/>
                </a:solidFill>
                <a:latin typeface="Courier New"/>
              </a:rPr>
              <a:t>! start at the t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Call CDK_App.GetTopItem( aItem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b2b2b2"/>
                </a:solidFill>
                <a:latin typeface="Courier New"/>
              </a:rPr>
              <a:t>! refresh the included libraries (needed if text mo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Call CDK_App.RefreshLibraries(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b2b2b2"/>
                </a:solidFill>
                <a:latin typeface="Courier New"/>
              </a:rPr>
              <a:t>! get the outline and item hand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Set nOutline = aItem.GetOutline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Set nItem = aItem.GetItem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b2b2b2"/>
                </a:solidFill>
                <a:latin typeface="Courier New"/>
              </a:rPr>
              <a:t>! as long as there is an i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While nItem &gt;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b2b2b2"/>
                </a:solidFill>
                <a:latin typeface="Courier New"/>
              </a:rPr>
              <a:t>! Initialize the i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Call aItem.Initialize( nOutline, nItem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b2b2b2"/>
                </a:solidFill>
                <a:latin typeface="Courier New"/>
              </a:rPr>
              <a:t>! get the type of the item (CDK_IT_CommentCont self-defin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Set nType = aItem.GetItemType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If Not aItem.IsReadOnly() And nType != CDK_IT_Comment </a:t>
            </a:r>
            <a:br>
              <a:rPr sz="1600"/>
            </a:b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And nType != CDK_IT_CommentCont</a:t>
            </a:r>
            <a:br>
              <a:rPr sz="1600"/>
            </a:b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And nType != CDK_IT_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! Now you can do something here with the i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b2b2b2"/>
                </a:solidFill>
                <a:latin typeface="Courier New"/>
              </a:rPr>
              <a:t>! get the next item, undocumented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Set nItem = SalOutlineNextLine( nOutline, nItem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D0D4A-5C4E-4AD5-9231-EACA0C43E57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600" spc="-1" strike="noStrike">
                <a:solidFill>
                  <a:srgbClr val="ffff00"/>
                </a:solidFill>
                <a:latin typeface="Verdana"/>
              </a:rPr>
              <a:t>DEMO</a:t>
            </a:r>
            <a:endParaRPr b="1" lang="en-US" sz="66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150" name="beavis16" descr=""/>
          <p:cNvPicPr/>
          <p:nvPr/>
        </p:nvPicPr>
        <p:blipFill>
          <a:blip r:embed="rId1"/>
          <a:stretch/>
        </p:blipFill>
        <p:spPr>
          <a:xfrm>
            <a:off x="3562200" y="2895480"/>
            <a:ext cx="2000520" cy="272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85AAF-11D8-470E-A563-4627D950EC8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Verdana"/>
              </a:rPr>
              <a:t>Beispiel 5: C++-Beispiel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Verwendung der Design-Patterns </a:t>
            </a:r>
            <a:r>
              <a:rPr b="0" i="1" lang="de-DE" sz="2400" spc="-1" strike="noStrike">
                <a:solidFill>
                  <a:srgbClr val="ffffff"/>
                </a:solidFill>
                <a:latin typeface="Verdana"/>
              </a:rPr>
              <a:t>Iterator </a:t>
            </a: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und </a:t>
            </a:r>
            <a:r>
              <a:rPr b="0" i="1" lang="de-DE" sz="2400" spc="-1" strike="noStrike">
                <a:solidFill>
                  <a:srgbClr val="ffffff"/>
                </a:solidFill>
                <a:latin typeface="Verdana"/>
              </a:rPr>
              <a:t>Visitor</a:t>
            </a: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 zur Textsuche im Co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Beispiel von Frank „</a:t>
            </a:r>
            <a:r>
              <a:rPr b="0" i="1" lang="de-DE" sz="2400" spc="-1" strike="noStrike">
                <a:solidFill>
                  <a:srgbClr val="ffffff"/>
                </a:solidFill>
                <a:latin typeface="Verdana"/>
              </a:rPr>
              <a:t>IntelliSal“</a:t>
            </a: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 Böttch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Definitionen der verwendeten Design Patterns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terator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n iterator provides a way to access the elements of an aggregate object sequentially without exposing it’s underlying represent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isito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presents an operation to be performed on the elements of an object structure. A visitor lets you define a new operation without changing the classes of the elements on which it operat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B4AC3-4778-4BB3-A7D5-FABA310E7D7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Verdana"/>
              </a:rPr>
              <a:t>Beispiel 5: Textsuche I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Die Definition des Visitors für einen Kommentar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00"/>
                </a:solidFill>
                <a:latin typeface="Courier New"/>
              </a:rPr>
              <a:t>class CGCommentVisitor : public CGVisitor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00"/>
                </a:solidFill>
                <a:latin typeface="Courier New"/>
              </a:rPr>
              <a:t>public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ffff00"/>
                </a:solidFill>
                <a:latin typeface="Courier New"/>
              </a:rPr>
              <a:t>CString sSearch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ffff00"/>
                </a:solidFill>
                <a:latin typeface="Courier New"/>
              </a:rPr>
              <a:t>void Visit( CGItem &amp;Item )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ffff00"/>
                </a:solidFill>
                <a:latin typeface="Courier New"/>
              </a:rPr>
              <a:t>CGCommentVisitor( CString spSearch )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ffff00"/>
                </a:solidFill>
                <a:latin typeface="Courier New"/>
              </a:rPr>
              <a:t>virtual ~CGCommentVisitor()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E011A-8F57-491B-AD65-9C6D822DEE1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Verdana"/>
              </a:rPr>
              <a:t>Beispiel 5: Textsuche II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Die Implementierung der Klas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CGCommentVisitor::CGCommentVisitor( CString spSearch 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sSearch = spSearch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Courier New"/>
              </a:rPr>
              <a:t>// This is called for every "visit", Set m_Done to TRUE to "stay"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void CGCommentVisitor::Visit( CGItem &amp;Item 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{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m_Done = FALSE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b2b2b2"/>
                </a:solidFill>
                <a:latin typeface="Courier New"/>
              </a:rPr>
              <a:t>// get some information about the ite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BOOL bComment = Item.GetItemType() == kIT_Comment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CString sText = Item.GetTitle() + " " + Item.GetText(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b2b2b2"/>
                </a:solidFill>
                <a:latin typeface="Courier New"/>
              </a:rPr>
              <a:t>// in this sample, we are searching for a text in a comment only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if ( bComment &amp;&amp; sText.Find( sSearch ) &gt; -1 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m_Done = TRUE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CGVisitor::Visit( Item 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E494C-23EA-46F7-BE99-E6EA6B1ECFB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Verdana"/>
              </a:rPr>
              <a:t>Was mache ich damit überhaupt?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Man kann es z. B. verwenden fü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Werkzeuge für Programmier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Komponente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Anpassungen der Entwicklungsumgebu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Automatische Codegenerieru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usw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Ja, ja, es gibt auch ein paar Beispie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87FF2-A819-4E67-BE10-D32A20DCCA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Verdana"/>
              </a:rPr>
              <a:t>Beispiel 5: Textsuche III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Die Suche, hier: Suche von obe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Courier New"/>
              </a:rPr>
              <a:t>// create a new visitor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CGCommentVisitor Visitor( sParameters 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CGApplication App( hOutline 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Courier New"/>
              </a:rPr>
              <a:t>// start with top_ite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CGItem Start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App.GetTopItem( Start 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Courier New"/>
              </a:rPr>
              <a:t>// create an iterator that checks each ite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CGOutlineIterator OutlineIterator( Visitor, Start, FALSE 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while ( OutlineIterator.Iterate() 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b2b2b2"/>
                </a:solidFill>
                <a:latin typeface="Courier New"/>
              </a:rPr>
              <a:t>// when its visitor breaks we found something, item is curren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CString sFound = OutlineIterator.CurrentItem().GetTitle() + " "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  + OutlineIterator.CurrentItem().GetText(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MessageBox ( NULL, sFound, "OutlineIterator", MB_OK 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A1496-746A-4726-9AE7-5F0507B8C3C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Verdana"/>
              </a:rPr>
              <a:t>Beispiel 5: Textsuche IV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6400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Die Suche, drei Suchen hintereinand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Finde den ersten Kommentar vom Top Level Item aus, das den Suchtext enthäl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Finde den ersten Kommentar vom markierten Outline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Item aus, das den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Suchtext enthäl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Finde das erste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beliebige Item vom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markierten Outline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Item aus, das den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Suchtext enthäl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267080" y="3500280"/>
            <a:ext cx="4621320" cy="26798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334120" y="1905120"/>
            <a:ext cx="2133360" cy="26668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4120" y="3124080"/>
            <a:ext cx="2590560" cy="28195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352680" y="4572000"/>
            <a:ext cx="2971800" cy="12193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316C1-0C79-42AB-9D07-32CAF74FD65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600" spc="-1" strike="noStrike">
                <a:solidFill>
                  <a:srgbClr val="ffff00"/>
                </a:solidFill>
                <a:latin typeface="Verdana"/>
              </a:rPr>
              <a:t>DEMO</a:t>
            </a:r>
            <a:endParaRPr b="1" lang="en-US" sz="66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166" name="beavis16" descr=""/>
          <p:cNvPicPr/>
          <p:nvPr/>
        </p:nvPicPr>
        <p:blipFill>
          <a:blip r:embed="rId1"/>
          <a:stretch/>
        </p:blipFill>
        <p:spPr>
          <a:xfrm>
            <a:off x="3562200" y="2895480"/>
            <a:ext cx="2000520" cy="272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E3DB9-B5D7-4F29-B3C1-A7378BC2889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Verdana"/>
              </a:rPr>
              <a:t>Zusammenfassung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Das CDK ist eine wertvolle Möglichkeit, Erweiterungen und Werkzeuge zu programmiere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Bei scheinbaren unerklärlichen Problemen nicht wahnsinnig werden; es gibt einige Bugs, dafür muss man Workarounds suchen oder Lösungen erfragen (Newsgroups!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Aus den mitgelieferten Beispielen lerne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Mit IntelliSal fällt das Lernen viel leichter, da die vielen Funktionen (mit wie üblich unterschiedlichen Namenskonventionen) teilweise verwirrend sin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6939E-6F32-4389-B35B-66EEFE7754A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Verdana"/>
              </a:rPr>
              <a:t>Q &amp; A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880" y="24379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Verdana"/>
              </a:rPr>
              <a:t>Noch Fragen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1308600" y="4597560"/>
            <a:ext cx="66103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It’s the question that drives us, Ne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</a:rPr>
              <a:t>Trinity, The Matr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85E7F-3666-404D-B0DB-4F3E1B277EF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Verdana"/>
              </a:rPr>
              <a:t>CDK Interfaces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Es gibt drei Interfaces für das CD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Outline Interfa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Runtime Inspector Interfa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Notification Interfa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FBE9E-4646-4FE2-9E90-C33F92F1530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Verdana"/>
              </a:rPr>
              <a:t>Outline Interface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Klassen und Funktionen zur Manipulation von SQLWindows-Programme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Man muss den Aufbau von SQLWindows-Programmen kennen, also die Hierarchie des Outline und der Control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Lesender und schreibender Zugriff ist möglic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Elemente können verändert, hinzugefügt oder gelöscht werde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Anwendungsbereiche: Codegeneratoren, Dokumentationstools, Text-Extraktoren, etc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28A59-1ADD-4829-8991-7EDAC4D3F84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Verdana"/>
              </a:rPr>
              <a:t>Runtime Inspector Interface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Mit diesem Interface kann man den Zustand und die Properties von Elementen (also Objekte wie Pushbuttons, Listboxen usw.) zur Laufzeit abfragen und manipuliere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Möglichkeit zum Logging und Tracen aller Statements ohne zusätzliche Debug-Statements im Co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Anwendungsbereiche sind: Debugging, Trace Tools, Profiler, usw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Allerdings gibt es in diesem Bereich viele Tools und andere technische Lösungen, so dass dieses Interface eher weniger genutzt wir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A06D7-CB95-48EF-91FE-48D0FEF79BB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Verdana"/>
              </a:rPr>
              <a:t>Notification Interface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Dieses Interface erlaubt einem Programm, mit Events darüber informiert zu werden, wenn der Outline-Focus geändert wird oder Manipulationen (Löschen, Ändern, Hinzufügen usw.) des Outline stattfinde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Wird so ein Event ausgelöst kann man im Anschluss z. B. wiederum das Outline Interface verwenden, um Code hinzuzufügen o. ä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Bekanntestes Beispiel für dieses Interface ist IntelliSal, das auf die verschiedensten Aktionen während des Codierens reagier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425E8-D176-4611-B216-D92948E14FD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Verdana"/>
              </a:rPr>
              <a:t>CDK-Struktur nicht-visuelle Klassen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80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Verdana"/>
              </a:rPr>
              <a:t>Die Objekthierarchie der</a:t>
            </a:r>
            <a:br>
              <a:rPr sz="2200"/>
            </a:br>
            <a:r>
              <a:rPr b="0" lang="de-DE" sz="2200" spc="-1" strike="noStrike">
                <a:solidFill>
                  <a:srgbClr val="ffffff"/>
                </a:solidFill>
                <a:latin typeface="Verdana"/>
              </a:rPr>
              <a:t>nicht visuellen Klasse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Verdana"/>
              </a:rPr>
              <a:t>Die Klasse </a:t>
            </a:r>
            <a:r>
              <a:rPr b="1" lang="de-DE" sz="2400" spc="-1" strike="noStrike">
                <a:solidFill>
                  <a:srgbClr val="ffff00"/>
                </a:solidFill>
                <a:latin typeface="Courier New"/>
              </a:rPr>
              <a:t>cdkItem</a:t>
            </a:r>
            <a:r>
              <a:rPr b="0" lang="de-DE" sz="2200" spc="-1" strike="noStrike">
                <a:solidFill>
                  <a:srgbClr val="ffffff"/>
                </a:solidFill>
                <a:latin typeface="Verdana"/>
              </a:rPr>
              <a:t> enthält alle Basisfunktione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Verdana"/>
              </a:rPr>
              <a:t>Die abgeleiteten Klassen enthalten alle Spezialfunktionen sowie ggf. überladene Funktionen für das jeweilige Objek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Verdana"/>
              </a:rPr>
              <a:t>Z. B. gibt es in der Klasse </a:t>
            </a:r>
            <a:r>
              <a:rPr b="1" lang="de-DE" sz="2400" spc="-1" strike="noStrike">
                <a:solidFill>
                  <a:srgbClr val="ffff00"/>
                </a:solidFill>
                <a:latin typeface="Courier New"/>
              </a:rPr>
              <a:t>cdkConstant</a:t>
            </a:r>
            <a:r>
              <a:rPr b="0" lang="de-DE" sz="2200" spc="-1" strike="noStrike">
                <a:solidFill>
                  <a:srgbClr val="ffffff"/>
                </a:solidFill>
                <a:latin typeface="Verdana"/>
              </a:rPr>
              <a:t> die Funktionen </a:t>
            </a:r>
            <a:r>
              <a:rPr b="1" lang="de-DE" sz="2400" spc="-1" strike="noStrike">
                <a:solidFill>
                  <a:srgbClr val="ffff00"/>
                </a:solidFill>
                <a:latin typeface="Courier New"/>
              </a:rPr>
              <a:t>SetConstValue()</a:t>
            </a:r>
            <a:r>
              <a:rPr b="0" lang="de-DE" sz="2200" spc="-1" strike="noStrike">
                <a:solidFill>
                  <a:srgbClr val="ffffff"/>
                </a:solidFill>
                <a:latin typeface="Verdana"/>
              </a:rPr>
              <a:t> und </a:t>
            </a:r>
            <a:r>
              <a:rPr b="1" lang="de-DE" sz="2400" spc="-1" strike="noStrike">
                <a:solidFill>
                  <a:srgbClr val="ffff00"/>
                </a:solidFill>
                <a:latin typeface="Courier New"/>
              </a:rPr>
              <a:t>GetConstValue(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705200" y="914400"/>
          <a:ext cx="405792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05200" y="914400"/>
                    <a:ext cx="405792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70A7D-69E5-41C1-9421-87EA4B12EC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2T18:42:53Z</dcterms:created>
  <dc:creator>Sven O. Rimmelspacher</dc:creator>
  <dc:description/>
  <dc:language>en-US</dc:language>
  <cp:lastModifiedBy>Sven O. Rimmelspacher</cp:lastModifiedBy>
  <dcterms:modified xsi:type="dcterms:W3CDTF">2001-11-19T07:07:26Z</dcterms:modified>
  <cp:revision>43</cp:revision>
  <dc:subject>Eine kurze Einführung</dc:subject>
  <dc:title>CDK  Component Developer's Kit</dc:title>
</cp:coreProperties>
</file>